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9CC-611B-47AC-A01E-2F5D5EE7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E3E-32EC-4C8E-94A0-156EE5B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CE6-B60B-4DA8-8430-9F75C471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F60-2431-4A37-8BCA-A9E7C5B2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9CC-FBE2-4A63-8BB0-31D06B73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8565-A8FB-4F9E-B781-4B95E397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DF31-6935-4B33-BC6B-52DC7BFF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6695-1504-48E5-ABEF-074353D2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E88-529C-4591-AB01-E94CB95B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41AA-E7BD-4F35-82C4-754A1DBA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5FDF-B8CD-4341-BA3F-BF7888E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F3B-7040-4653-8EEC-33E7373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0C01-8297-424F-9478-A9BF28F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A1E7-2574-47C3-B76E-740154F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958F-C375-4091-987A-673A7190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EB39-601C-49F2-B103-51B6CC56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99DE-B4F7-4B6E-82DF-C2F093D6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4A8-262E-4385-9387-6192C81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103-F2C6-4E13-9BDE-6D5E335B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A96-1AC5-4878-A735-23B1086B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9C6-9397-40CC-B444-39389CB8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D9B-3D0A-4C56-A159-9832C270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F1B-35ED-4F38-B3FF-E03A594A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B4D-AA51-4E04-8E31-F89D040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1EC-EF1D-4D05-AEB8-9207DA6883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4BE-A2B0-4EB2-98F0-EEC13695D1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Farming Ga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as your group successful?  Wh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What group had it best?  Wh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What separated successful groups from unsuccessful group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What would disadvantaged peoples do to solve their problem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So what… Why is this critical when discussing the origins of World History…what does it tell us (make some prediction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485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610840" cy="50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533520"/>
          <a:ext cx="9144000" cy="6172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on needed from invader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 water for crop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to plant &amp; harv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 order &amp; pea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ed to know when to plant &amp; harves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Problem/Solu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ction from invad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ild walls, ditches, military, weapons, find all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water for cro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rrigation ditches/man-made stream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ood pond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icult to plant &amp; harves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ls . . . Plows, selective planting, more peop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order and pea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ate laws, police/army, religion, govt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know when to plant and harves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p the stars, almanacs/records, weather patter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at is Language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re the problems with using pictures/drawing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re the problems with using the code and hieroglyphic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mbols with universal understanding arranged in ways to convey a mess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uneiform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ten Sumerian language (Meso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x recor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Sumerian Cuneiform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uneiformTablet"/>
          <p:cNvPicPr/>
          <p:nvPr/>
        </p:nvPicPr>
        <p:blipFill>
          <a:blip r:embed="rId2"/>
          <a:stretch/>
        </p:blipFill>
        <p:spPr>
          <a:xfrm>
            <a:off x="0" y="3637080"/>
            <a:ext cx="4114800" cy="322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Hieroglyphic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icture writing of ancient Egy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d symbols of common items found in Egyp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cross_glyph"/>
          <p:cNvPicPr/>
          <p:nvPr/>
        </p:nvPicPr>
        <p:blipFill>
          <a:blip r:embed="rId1"/>
          <a:stretch/>
        </p:blipFill>
        <p:spPr>
          <a:xfrm>
            <a:off x="3124080" y="2340000"/>
            <a:ext cx="6019920" cy="451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Rosetta Sto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76320" y="83808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86 B.C. – tax records and statue construction ord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ritten in a spok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gyptian diale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eroglyphic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eek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overed by Napoleon in 1799 A.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could read hieroglyphics b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lating Greek to Egyptian &amp;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ching Egyptian to Hiero’s . . 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ritish defeat Napoleon &amp;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ke the stone to Engla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Image:Rosetta Stone.JPG"/>
          <p:cNvPicPr/>
          <p:nvPr/>
        </p:nvPicPr>
        <p:blipFill>
          <a:blip r:embed="rId1"/>
          <a:stretch/>
        </p:blipFill>
        <p:spPr>
          <a:xfrm>
            <a:off x="6477120" y="3738600"/>
            <a:ext cx="2666880" cy="31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https://encrypted-tbn2.google.com/images?q=tbn:ANd9GcQ9OxGZ-us_R8jKlbYQUrK8YIzHzeU7auTzfGvc8j7sjVZVD6icHA"/>
          <p:cNvPicPr/>
          <p:nvPr/>
        </p:nvPicPr>
        <p:blipFill>
          <a:blip r:embed="rId2"/>
          <a:stretch/>
        </p:blipFill>
        <p:spPr>
          <a:xfrm>
            <a:off x="7270920" y="316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Video C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Tahoma"/>
              </a:rPr>
              <a:t>History of the World in 2 hou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4d"/>
                </a:solidFill>
                <a:latin typeface="Tahoma"/>
              </a:rPr>
              <a:t>- 48:00 to 1:00:00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4d"/>
                </a:solidFill>
                <a:latin typeface="Tahoma"/>
              </a:rPr>
              <a:t>Support the given claim with evidence and your explan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ang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changes in society will happen because of specialized lab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ill happen to the price of goo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w that you can get your basic needs faster what will you start doing with your extra ti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esopotamia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ed in the Fertile Cresc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gris and Euphrates Riv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werful city-stat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MAP_MESOPOTAMIA"/>
          <p:cNvPicPr/>
          <p:nvPr/>
        </p:nvPicPr>
        <p:blipFill>
          <a:blip r:embed="rId1"/>
          <a:stretch/>
        </p:blipFill>
        <p:spPr>
          <a:xfrm>
            <a:off x="3886200" y="762120"/>
            <a:ext cx="5257800" cy="47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Ziggurat “Holy Mountain”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mple and city cent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ce for sacrifi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 of No Retur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gutians_sumer_ziggurat1a"/>
          <p:cNvPicPr/>
          <p:nvPr/>
        </p:nvPicPr>
        <p:blipFill>
          <a:blip r:embed="rId1"/>
          <a:stretch/>
        </p:blipFill>
        <p:spPr>
          <a:xfrm>
            <a:off x="0" y="3290760"/>
            <a:ext cx="4800600" cy="356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ziggurat"/>
          <p:cNvPicPr/>
          <p:nvPr/>
        </p:nvPicPr>
        <p:blipFill>
          <a:blip r:embed="rId2"/>
          <a:stretch/>
        </p:blipFill>
        <p:spPr>
          <a:xfrm>
            <a:off x="4533840" y="1924200"/>
            <a:ext cx="4610160" cy="4933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esopotamian Class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-12600" y="828720"/>
            <a:ext cx="9169200" cy="58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chievemen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ithmetic/geometry – build walls, 60se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iggurats, colum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neifor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de of Law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Hammurabi’s Co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http://rds.yahoo.com/_ylt=A0WTefUDPsdI3BYB4WyjzbkF/SIG=12pt5m0c4/EXP=1221103491/**http%3A/acmeme.com/all/travel/conakry/paris/day3/code_of_hammurabi.JPG"/>
          <p:cNvPicPr/>
          <p:nvPr/>
        </p:nvPicPr>
        <p:blipFill>
          <a:blip r:embed="rId1"/>
          <a:stretch/>
        </p:blipFill>
        <p:spPr>
          <a:xfrm>
            <a:off x="50292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ile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5680" y="8380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ngest River in the world = 4,100 m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fe-bloo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ulture_egyptmap"/>
          <p:cNvPicPr/>
          <p:nvPr/>
        </p:nvPicPr>
        <p:blipFill>
          <a:blip r:embed="rId1"/>
          <a:stretch/>
        </p:blipFill>
        <p:spPr>
          <a:xfrm>
            <a:off x="0" y="2681280"/>
            <a:ext cx="563868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Government &amp; Relig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aohs are god-king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ocracy: priests were top advis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1 dynast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kingdoms uni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ytheis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aohs continued ruling after death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mmification saved body for afterlif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yramids and burial chamb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Using the Nil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raw and ree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s a narrow strip of fertile la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nile"/>
          <p:cNvPicPr/>
          <p:nvPr/>
        </p:nvPicPr>
        <p:blipFill>
          <a:blip r:embed="rId1"/>
          <a:stretch/>
        </p:blipFill>
        <p:spPr>
          <a:xfrm>
            <a:off x="4248000" y="762120"/>
            <a:ext cx="489600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ile8"/>
          <p:cNvPicPr/>
          <p:nvPr/>
        </p:nvPicPr>
        <p:blipFill>
          <a:blip r:embed="rId2"/>
          <a:stretch/>
        </p:blipFill>
        <p:spPr>
          <a:xfrm>
            <a:off x="0" y="3887640"/>
            <a:ext cx="5562720" cy="297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nvironmen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ert barri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ss w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ss trad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dictable flooding (season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much usable la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http://rds.yahoo.com/_ylt=A0WTefOGC5hMFAcAHNajzbkF/SIG=122b70gto/EXP=1285119238/**http%3a/www.crystalinks.com/osirishorusisis.jpg"/>
          <p:cNvPicPr/>
          <p:nvPr/>
        </p:nvPicPr>
        <p:blipFill>
          <a:blip r:embed="rId1"/>
          <a:stretch/>
        </p:blipFill>
        <p:spPr>
          <a:xfrm>
            <a:off x="5943600" y="333684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gyptian Burial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rcophagus protects the physical bod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08%20Sarcophagus"/>
          <p:cNvPicPr/>
          <p:nvPr/>
        </p:nvPicPr>
        <p:blipFill>
          <a:blip r:embed="rId1"/>
          <a:stretch/>
        </p:blipFill>
        <p:spPr>
          <a:xfrm>
            <a:off x="0" y="1905120"/>
            <a:ext cx="685800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Egyptian%2520Sarcophagus"/>
          <p:cNvPicPr/>
          <p:nvPr/>
        </p:nvPicPr>
        <p:blipFill>
          <a:blip r:embed="rId2"/>
          <a:stretch/>
        </p:blipFill>
        <p:spPr>
          <a:xfrm>
            <a:off x="6838920" y="0"/>
            <a:ext cx="2305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ocial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yal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ed/arm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tisans/mercha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rmers/worker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lav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eroglyphic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pyrus – paper like pla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endars, geometry, engineering, astronomy, columns, medicine. . 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Image:Egypt Hieroglyphe4.jpg"/>
          <p:cNvPicPr/>
          <p:nvPr/>
        </p:nvPicPr>
        <p:blipFill>
          <a:blip r:embed="rId1"/>
          <a:stretch/>
        </p:blipFill>
        <p:spPr>
          <a:xfrm>
            <a:off x="5943600" y="13716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mage:Egypt.Giza.Sphinx.01.jpg"/>
          <p:cNvPicPr/>
          <p:nvPr/>
        </p:nvPicPr>
        <p:blipFill>
          <a:blip r:embed="rId2"/>
          <a:stretch/>
        </p:blipFill>
        <p:spPr>
          <a:xfrm>
            <a:off x="0" y="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can specialized labor connect civiliz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problems could be created by specialized lab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dus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ed in Northwest Indi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ver changed direc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nsoons inflict dam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Indus_river"/>
          <p:cNvPicPr/>
          <p:nvPr/>
        </p:nvPicPr>
        <p:blipFill>
          <a:blip r:embed="rId1"/>
          <a:stretch/>
        </p:blipFill>
        <p:spPr>
          <a:xfrm>
            <a:off x="4199040" y="762120"/>
            <a:ext cx="4944960" cy="6095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Indus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5520" y="838080"/>
            <a:ext cx="3048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gged and elevated terrai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y natural barri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-planned cit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Indus"/>
          <p:cNvPicPr/>
          <p:nvPr/>
        </p:nvPicPr>
        <p:blipFill>
          <a:blip r:embed="rId1"/>
          <a:stretch/>
        </p:blipFill>
        <p:spPr>
          <a:xfrm>
            <a:off x="0" y="1828800"/>
            <a:ext cx="6191280" cy="5029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Huang He River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ang He tint comes from the sil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ans North-central Chin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lers receiv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andate of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ve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china-yellow-river-b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77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ap_of_China"/>
          <p:cNvPicPr/>
          <p:nvPr/>
        </p:nvPicPr>
        <p:blipFill>
          <a:blip r:embed="rId2"/>
          <a:stretch/>
        </p:blipFill>
        <p:spPr>
          <a:xfrm>
            <a:off x="3352680" y="3762360"/>
            <a:ext cx="6048360" cy="309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hinese Writing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veloped early written langua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shijing1"/>
          <p:cNvPicPr/>
          <p:nvPr/>
        </p:nvPicPr>
        <p:blipFill>
          <a:blip r:embed="rId1"/>
          <a:stretch/>
        </p:blipFill>
        <p:spPr>
          <a:xfrm>
            <a:off x="4533840" y="1828800"/>
            <a:ext cx="4610160" cy="5029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hinabrifge"/>
          <p:cNvPicPr/>
          <p:nvPr/>
        </p:nvPicPr>
        <p:blipFill>
          <a:blip r:embed="rId2"/>
          <a:stretch/>
        </p:blipFill>
        <p:spPr>
          <a:xfrm>
            <a:off x="0" y="2286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Early Civiliz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ajor River Civiliz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evolution"/>
          <p:cNvPicPr/>
          <p:nvPr/>
        </p:nvPicPr>
        <p:blipFill>
          <a:blip r:embed="rId1"/>
          <a:stretch/>
        </p:blipFill>
        <p:spPr>
          <a:xfrm>
            <a:off x="0" y="3678120"/>
            <a:ext cx="9144000" cy="3179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Early Peoples: Progres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hnology &amp; Food Drive Humani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mads: Wander in search of f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nter/gatherers: villagers but relocated when supply runs ou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mestication: create tamed herd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illages accelerate progr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tools = farming,             surplus f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food = more people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bor groups &amp; social classes         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vernment struct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MMAG00343_0000[1]"/>
          <p:cNvPicPr/>
          <p:nvPr/>
        </p:nvPicPr>
        <p:blipFill>
          <a:blip r:embed="rId2"/>
          <a:stretch/>
        </p:blipFill>
        <p:spPr>
          <a:xfrm>
            <a:off x="4724280" y="3886200"/>
            <a:ext cx="1076400" cy="663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MAG00343_0000[1]"/>
          <p:cNvPicPr/>
          <p:nvPr/>
        </p:nvPicPr>
        <p:blipFill>
          <a:blip r:embed="rId3"/>
          <a:stretch/>
        </p:blipFill>
        <p:spPr>
          <a:xfrm rot="5400000">
            <a:off x="6143400" y="4829040"/>
            <a:ext cx="771480" cy="56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eolithic Revolu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 given to the time period which humans stopped hunting/gathering and settled in citi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uld eventually lead to the formation of civilizations/cul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ccurred around 8,000 BC in India and Middle Eas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4400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5 </a:t>
            </a:r>
            <a:r>
              <a:rPr b="1" lang="en-US" sz="3200" spc="-1" strike="noStrike" u="sng">
                <a:solidFill>
                  <a:srgbClr val="47ffd1"/>
                </a:solidFill>
                <a:uFillTx/>
                <a:latin typeface="Arial Black"/>
              </a:rPr>
              <a:t>LARGE</a:t>
            </a:r>
            <a:r>
              <a:rPr b="0" lang="en-US" sz="3200" spc="-1" strike="noStrike">
                <a:solidFill>
                  <a:srgbClr val="47ffd1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Characteristics of Civilization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Language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reads idea, keeps records (histories, taxes…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Achievements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 solutions to problems (technology, buildings, weapons, irrigation…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Rules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des of behavior to follow (government and religion create order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Geography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and land features (rivers and resource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Economics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velopment of specialized labor and forms of trad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4 River Civilizatio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Mesopotamia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gris &amp; Euphrates (Iraq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ile (Egypt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ellow (Chin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us (India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57200" y="3182760"/>
            <a:ext cx="8223120" cy="3729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Benefits of Water!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cess to fresh wat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sh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rtile Soi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sy Transportation/Tra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splash-of-single-drop-in-still-water-pink-and-cyan-rotated-and-cropped-AJHD"/>
          <p:cNvPicPr/>
          <p:nvPr/>
        </p:nvPicPr>
        <p:blipFill>
          <a:blip r:embed="rId1"/>
          <a:stretch/>
        </p:blipFill>
        <p:spPr>
          <a:xfrm>
            <a:off x="7754760" y="0"/>
            <a:ext cx="1389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WaterBottleBob"/>
          <p:cNvPicPr/>
          <p:nvPr/>
        </p:nvPicPr>
        <p:blipFill>
          <a:blip r:embed="rId2"/>
          <a:stretch/>
        </p:blipFill>
        <p:spPr>
          <a:xfrm>
            <a:off x="4952880" y="76212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nile-river"/>
          <p:cNvPicPr/>
          <p:nvPr/>
        </p:nvPicPr>
        <p:blipFill>
          <a:blip r:embed="rId3"/>
          <a:stretch/>
        </p:blipFill>
        <p:spPr>
          <a:xfrm>
            <a:off x="2819520" y="1447920"/>
            <a:ext cx="24588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etski"/>
          <p:cNvPicPr/>
          <p:nvPr/>
        </p:nvPicPr>
        <p:blipFill>
          <a:blip r:embed="rId4"/>
          <a:stretch/>
        </p:blipFill>
        <p:spPr>
          <a:xfrm>
            <a:off x="2971800" y="3133800"/>
            <a:ext cx="3124080" cy="21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page4ancient%2520egytptian%2520boat"/>
          <p:cNvPicPr/>
          <p:nvPr/>
        </p:nvPicPr>
        <p:blipFill>
          <a:blip r:embed="rId5"/>
          <a:stretch/>
        </p:blipFill>
        <p:spPr>
          <a:xfrm>
            <a:off x="2819520" y="30481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16:05Z</dcterms:created>
  <dc:creator>Robert Kuenzi</dc:creator>
  <dc:description/>
  <cp:keywords/>
  <dc:language>en-US</dc:language>
  <cp:lastModifiedBy>Kuenzi</cp:lastModifiedBy>
  <dcterms:modified xsi:type="dcterms:W3CDTF">2015-09-14T15:45:01Z</dcterms:modified>
  <cp:revision>61</cp:revision>
  <dc:subject/>
  <dc:title>Early Civiliz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